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0CF2-3B88-49BE-B0B8-46FF11051110}" type="datetime">
              <a:rPr b="0" lang="en-US" sz="1200" spc="-1" strike="noStrike">
                <a:solidFill>
                  <a:srgbClr val="000000"/>
                </a:solidFill>
                <a:latin typeface="Trebuchet MS"/>
              </a:rPr>
              <a:t>07/30/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2D08-9836-4047-9419-D978E511365B}"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8AAC-912D-469E-88E7-B63B1213E34B}"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4E31-538F-429F-B758-4157E611E65F}"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1078-3A78-4350-A144-0CDD8C265E39}"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C48B-A74B-4586-910A-D450806372CB}"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B163-B94C-4949-B783-8674B2DFD1BA}"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BB01-8177-411C-8411-8939C344DE01}"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B99B-5809-4489-9972-75EA62EAD255}"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E5B99B-67D4-46D4-8912-8322D419F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D6D5A4-E590-4086-979E-0B3040BE23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AA798-805A-40A1-BE6F-8D880F2C08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596277-3756-4FD6-A77C-89CC898729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7DC8D6-DC10-4FD5-BE4C-F139F13B70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80BE1A-9CB6-4B0C-9DFD-84A58F412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9AC66A-A61B-405E-89E1-9F59A35F5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9EFC65-5223-49CF-90AE-370D9416FF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97E693-CE91-43CC-8C62-122F2C384E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F68FB-9A56-4320-A94A-3B0550380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D611A0-C359-4A97-A182-F2F85002B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48DCF-30BC-4A43-BE07-9CB16D998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B05B-28C3-4F1A-9FCA-F43F0A699D8C}"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B902-E9E3-44DA-A612-902CE722A36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CCD4-F4FB-4A51-8EF8-E55015DAAF6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FC69-391A-4334-9529-669A70BFF3D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2A03-A22B-4F3A-A788-2B8FE20EC44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886B-314A-421B-B396-36245C08219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094A-41CA-4E43-BA9D-F5B4A4E9C13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2CF9-0F8E-4282-9AEC-4EDE8483FD4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5A36-E027-4190-AB87-6CFEF955877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7B7C-B3B4-4946-8183-ECCC293C59A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3952-59AC-4269-B675-2DE762952AC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60B7-5082-460A-B62B-1988826FD1D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942A-CE00-402E-BED8-1E5E887C40C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FCAD-0B15-4501-B8C5-7BFBB9FF2B3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D131-95B2-4A3E-9C84-E258FA7273F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D851-14F1-4AA0-90DD-2BDA265B433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768D-05F3-40D9-88E3-5682E2833FC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7597-F409-45F9-9C2F-B7EBF94C3AB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B7B-BC82-4B8F-9934-02F24093FE7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FCA4-07F3-42B0-A13A-F477484A31E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4A34-00A1-4006-BDA5-CBF7EB6E728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1654-BEDF-4F8E-884B-3188A4F8015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