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7895-1420-42B1-8D5B-508CF64DE268}" type="datetime">
              <a:rPr b="0" lang="en-US" sz="1200" spc="-1" strike="noStrike">
                <a:solidFill>
                  <a:srgbClr val="000000"/>
                </a:solidFill>
                <a:latin typeface="Trebuchet MS"/>
              </a:rPr>
              <a:t>07/29/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BB53-0FF1-42B5-9BD9-53DE3A50C3F2}"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6A1D-83D7-470F-89C4-23075E3F5BE8}"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0BA6-8883-4B2E-AEEC-2D264B1F2E9E}"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5DCC-1AC1-49C2-9E63-10606D21F15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C2B7-E937-4A53-87AE-0B8E1CBF5519}"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9F29-0250-4571-A80F-7B0CEF98BA30}"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E53F-FA77-4D98-AC05-3247D3DA4D3C}"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973B-3AF5-4F37-A2E4-B283C6DECE4E}"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B70B9A-F13F-408B-8AA6-518FEB375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CCDCAA-E2C3-4655-9EEA-7DBF39638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6BACC-2133-45FE-AAC3-E17D71061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16288B-70BC-41B8-B740-EC56C650A0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C941D-7B89-4E8F-A125-0812CD98E6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814EAF-B3BF-48F2-8965-9044BE087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7CB59-AFC6-408B-87C9-97AA8A691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7A991-B108-4A40-8312-334C1FDC5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4EE456-FD98-4C52-8B52-A738D6E9C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389173-A5F6-4F38-AECD-326E5A4042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95AFC2-0883-4817-BD53-42D2DD5E0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DD29B2-2AB2-4CAB-B178-204DAF0D9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F155-4077-4A5C-A923-312530EBE0A9}"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4ECF-0B1D-4EE9-828A-F9F0B4D6761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ED2E-FD7E-4028-B178-3867F13B4F7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6CE9-FFBC-4CF0-851D-6CC19166EC0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2B82-3FEA-4030-9136-E867F8139B6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3CA0-AF40-40B9-B536-E8165685374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DE4B-53D9-4914-8E19-BB89C2DA2B6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F01C-65D0-4747-9FD6-12D3B9C3792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DC05-7040-4DA0-90C2-DBD75F9E735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A129-7A70-4A4A-840C-AF0E2B38C33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5A79-C5E7-4044-A604-303DE71D3DE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215D-FDC0-4AD3-856E-4D07DC55C89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F420-B7BF-4579-BE8B-2813F29B02A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2B24-C0FB-4647-AFDE-F3D5CEB9107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F806-D090-465A-B023-5255E104C16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240C-D130-4A17-8A7D-ACC50425549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532D-0E7D-49BF-BF83-A62D646E7E9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6C24-2C91-4E49-A3C6-EF453799874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E430-F041-4B52-83F5-39F0BBC7BBC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49A9-CF94-4E74-A8D7-9F5C29C3C86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0E26-2135-419E-B2BC-2E44E5FE645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1150-028A-460C-9201-9D19456E8C77}"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